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5330-DCEC-454A-B8AE-CE01BB36E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5023-0777-4953-B2C2-5FA0E9F0F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9DB4-E9EB-4343-9869-C7A0D419F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9642-B640-454D-9431-FCAEC3B3F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9BDB-EFB0-45A0-B298-514B5DD47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BB1E-4325-438F-9D48-504A7D9D3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655B-C881-438C-870E-354847450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0FA6-EF5B-450D-B887-327C85F0F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0869-B885-414C-B9CF-9B444E7CF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260C-1442-4068-9948-AEAF39FE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9982-D6B8-4C6B-A5D4-A8EE239A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F8FE-BEAE-4D09-920A-F479FE54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DC23-0A0A-4F23-B287-3F5592F97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hTSG2aSEF-E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eme Skiing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i Slopes and their Sl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240" y="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s: Students will find rates of change from tables and graph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will find slo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8120" y="2133720"/>
            <a:ext cx="32572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590920" y="30492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p here and begin ho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434340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at page 286: 7-23 o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the rate of change consta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548640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constant rate of change (CROC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895480" y="1219320"/>
            <a:ext cx="30625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are slope and rate of change simil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ch section is the steepe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think of an easy way to tell which section is the steepest, without having to point to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3805200" cy="35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90920" y="1905120"/>
            <a:ext cx="39528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steep is the steepest sec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505296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600200" y="304920"/>
            <a:ext cx="6296040" cy="1512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548640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148520" cy="666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676520" y="1219320"/>
            <a:ext cx="5343480" cy="44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weird sl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pe of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fined/No sl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13:12:31Z</dcterms:created>
  <dc:creator>Christopher Clark</dc:creator>
  <dc:description/>
  <dc:language>en-US</dc:language>
  <cp:lastModifiedBy>grahams</cp:lastModifiedBy>
  <dcterms:modified xsi:type="dcterms:W3CDTF">2013-01-24T14:22:37Z</dcterms:modified>
  <cp:revision>11</cp:revision>
  <dc:subject/>
  <dc:title>Slide 1</dc:title>
</cp:coreProperties>
</file>